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957-03B0-4314-A24C-2ADB8961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CE0-FCD6-4EED-AFDC-64516FD8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337-6769-48FD-905D-5CCC3D31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1FA-7480-41DD-9855-804546CA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1A7-9D95-43C6-8A67-86A534E7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33A-86B3-4368-BD9D-6ACD8568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244-9956-4064-9817-2F2EF14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EA2-624C-4631-B65E-B81E663D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579-6CB2-4E6A-9DD5-BF42923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2E6-EB6A-44E4-972C-7B19F9F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B1C-BCA1-4E3B-A23B-3770205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B49-EF7B-40B9-87CC-B911F29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F399-D61E-4881-81A5-933C0514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Участие в профессиональных конкурс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162480"/>
            <a:ext cx="91440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Презентацию подготовила Ивершина Татьяна Михайл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учитель начальных классов МБОУ «Лешуконская СОШ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Методическое совещ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800520" cy="537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7880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82296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82296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229600" cy="296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22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300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8360" y="1962000"/>
            <a:ext cx="822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335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8229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37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82296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ревнование с целью выявить из числа представленных наиболее достойных участников или наилучшие работы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по Ефремовой)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ревнование, имеющее целью выделить лучших участников, лучшие работы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по Ожегов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ревнование для выявления наилучших из числа участников, представленных работ и т. п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Энциклопедический 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48355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Конкурс – это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«Минусы»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профессиональных конк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в организации трудового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ссовость, напряженность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«Плюсы»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профессиональных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компетенций педагогов, развитие творческого потенциала, приобщение к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активной жизненной позиции, коммуникативных способностей, стремления к самосовершенствованию, самопозн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благоприятной мотивационной среды для профессионального развития педаго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дрение новых педагогических технологий в муниципальную сферу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рейтинга не только отдельного педагога, но и школы в цело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Методика оценки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офессиональной деятельности педагогов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 установление квалификационных категор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4392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ктивное участие в проф. конкурс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8. 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п.) на уровне ОО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муниципальн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9. 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п.) на региональ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межрегиональн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10. Участие в профессиона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курсах (смотрах, фестивал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ревнованиях, выставках про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стерства и т.п.) на федерально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дународном уров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0360" y="2421000"/>
            <a:ext cx="439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ечень оснований для 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ых балл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 п.) на уровне ОО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муниципальном уров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 п.) на региональ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межрегиональном уров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 п.) на федераль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международном уров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625644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6560" y="6113520"/>
            <a:ext cx="26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916280"/>
            <a:ext cx="367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Высшая категор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1844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Перв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524480" cy="639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308480" cy="609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7184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278600" cy="604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29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287960" cy="606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38600" y="260280"/>
            <a:ext cx="45054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08:10:46Z</dcterms:created>
  <dc:creator>user</dc:creator>
  <dc:description/>
  <dc:language>en-US</dc:language>
  <cp:lastModifiedBy>user</cp:lastModifiedBy>
  <dcterms:modified xsi:type="dcterms:W3CDTF">2016-12-11T12:29:48Z</dcterms:modified>
  <cp:revision>3</cp:revision>
  <dc:subject/>
  <dc:title>Слайд 1</dc:title>
</cp:coreProperties>
</file>